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AA690-5534-44CF-BA5A-900CC4C60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50527-8724-4D3B-B73D-3BB08198E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D80515-6075-4DAE-81D0-83F832D5D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11C874-6F0A-4B2C-BA21-2321AABD5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ubTitle"/>
          </p:nvPr>
        </p:nvSpPr>
        <p:spPr>
          <a:xfrm>
            <a:off x="457200" y="344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56FF3B-B744-4381-8E7E-B407A32D6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332CCC-B9CF-4904-AA3E-D9B467F86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7071A7-DA67-4E79-BA3B-B69347B89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6E64A1-0CD5-42FB-B462-75E423115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68308F-AD02-4D41-9118-DFD44ED88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EA46B0-E922-4B73-AA60-9B2AEAB48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333072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592128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73980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69" name="PlaceHolder 6"/>
          <p:cNvSpPr>
            <a:spLocks noGrp="1"/>
          </p:cNvSpPr>
          <p:nvPr>
            <p:ph/>
          </p:nvPr>
        </p:nvSpPr>
        <p:spPr>
          <a:xfrm>
            <a:off x="333072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70" name="PlaceHolder 7"/>
          <p:cNvSpPr>
            <a:spLocks noGrp="1"/>
          </p:cNvSpPr>
          <p:nvPr>
            <p:ph/>
          </p:nvPr>
        </p:nvSpPr>
        <p:spPr>
          <a:xfrm>
            <a:off x="592128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5A5853-1233-42E5-A430-0CD00E35B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3A3D2-6790-430E-B6AE-6057B5CDF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3072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2128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3980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3072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2128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42A72-6859-433E-9753-891468DA4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2BE3A-163D-43F0-AC23-E532DA9D3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B98F4-931B-4E46-B7AF-B5EBF8DFB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FACE7-BDCF-4C38-9605-DDDE32DA3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76E64-5634-4C15-93CA-292E8443C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84D31-F1C1-439C-A0A6-F21C1583E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344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6180D-5743-4BBE-B05F-91A14215C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D8724-2363-4F0F-B827-36CC22E36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105AB-3B96-4FA9-8678-D0BD17AA0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E91D3-72E3-482C-92DA-8C75A7259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26236-7C6B-4120-B73E-7EE4AD502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434DC-D529-4E0B-9B16-A2DEF6EEF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33028-9C71-4360-AFCF-CB9DF9027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3072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2128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73980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3072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2128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A91EE-DC79-4384-9286-5192D097F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34B7EA-78B5-4259-BD0F-86CCF5872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549707-55EB-4438-BF6A-C759CA1EC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F842A7-00FD-4F87-9816-A50F6D202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EE8874-C98E-4DAD-9594-51FA7863B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16E7D7-0F33-42C0-805A-85DF4A0E1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16C16-5CC8-428A-BBFA-D2071A227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344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D4E214-F22A-4E5B-BEF4-76FAD5842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72CDC6-2581-4174-8B78-DAF7C8C79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228FEC-7626-4264-9CF9-DFB778E4A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59B19F-3312-4AB6-A9B6-8D84EAB05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A3ED25-F65E-4A7A-A3DB-9DF883CC1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42C595-B5D9-4439-BA0C-A97098C20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33072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92128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73980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33072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592128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F03258-6C44-4B7C-A145-E8AC1B483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2C2B61-B2E0-40DA-9571-223C4ED9D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075DD7-2B15-40BD-85D8-E7343490E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DAC5AA-9CE5-4CA7-9FEF-FCB0EAFF9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E5E5B-4A1F-49BD-BE55-45D2AE4E4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38A73F-FF23-4B47-A36F-B25DCAB67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AA01C1-2BAA-435B-BEB9-C833CEF4C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7200" y="344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DD8E37-8DFB-4769-9213-C0FBA0017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950560-1F7A-49EF-9C2B-0A64EB4F4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C2D003-7ADA-46A2-B2BF-FCAAA2FD6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05E94A-DC18-4B3C-808E-0C3289025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28E169-4AFA-464D-8103-27EE4AD3D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D9BD07-02BB-422F-B67E-D2690F4F2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33072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592128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73980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33072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592128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7892F0-362E-4D17-AB88-24F7F0FDC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01BF6E-0A9C-46B2-AD69-D3E529936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6307E-88A9-437F-A283-595E1BA01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BB686F-4348-437A-8790-E685B5DA4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9C1D8E-3F3D-4132-9DAD-B9C81CB23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F7870D-F3AE-4BF5-839D-459711447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577B1B-4CED-455C-965A-462215188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457200" y="344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9F98C7-67D0-49AF-8A77-1724801FE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84E667-56EB-4A68-974C-AC367B8BE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E89DEE-2695-4BCC-955D-BE11A9590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EAD3AC-C0A2-4116-BBDF-F4F567DE1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75D449-F94A-4D84-A09A-75631C1D7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C43B81-B81C-48BF-B426-3D6C21DA4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44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4DA93-AFA4-451D-A274-8D87038F7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33072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592128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73980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33072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592128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39654D-71BB-43DE-AA42-F387A0093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CD2F56-6E33-4F25-A4A1-E5F78C612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A67D3C-EF8E-40EA-B1F2-6690B3019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8DAB6C-8394-4B23-9C53-151DC7D46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E34BB9-9FCA-4065-82C5-2577F5F62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9EFA26-2EFB-4C6D-83EB-930AC0C0E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457200" y="344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779FB5-5320-4493-ADFD-3B3EA0C01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4BF320-0FE6-4EA2-BEBE-C5DD5CF94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D5A8C7-B547-4612-8353-5B16EB9E0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3D24A9-702B-4FCA-9DA0-20C84A519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F56C8-407E-4C71-96D4-4CF4B9A59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BD6189-E232-4826-B2B4-84796080A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78C482-655A-4C86-91D8-AAA2AE9BD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33072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592128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73980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333072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592128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6B3EDE-A339-47E0-99D9-C42305580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8EB139-FF8D-4461-8CB4-F215811DE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446614-D636-4CA4-8A56-27B558F18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A4800A-1E19-46B2-A4F2-91E0A2BE0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5320A5-2328-40FD-BDF2-F9F03A9BA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E5EC23-1232-4D30-8D02-4EE52E18A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457200" y="344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31992B-FBB4-46CD-BD42-63D7D1082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2C86C1-852E-4F5E-B4B3-E708B8EF3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1113D-CF12-4C6A-811D-5D1EA02B9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63AA75-D934-46A8-B565-113356409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96D23D-6779-43C7-A193-AC4DC5B31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DAA9AC-B6D3-468D-B328-36979F843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49571F-E0BC-42D4-848B-0724F852A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33072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592128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73980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333072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592128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3341AE-8B75-4DF7-A721-E6FDEB371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43F567-2982-45C2-868B-9BE33F632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8EBF91-7D34-40E0-B8A3-FC5B4FC1D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FEE3B5-D908-4DDA-AF7B-8E9000A6E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189079-6E81-4CD2-91F3-1BD382DD7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37C287-9D5A-465D-8BD9-CA89B8C66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90088-D07C-4811-A4EA-5050CF638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457200" y="344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A5414A-F043-4D72-9517-A7AB49720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FAFBBA-D3B4-4A41-A20D-81059F83D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6FD60D-2B08-4207-862F-AA79EB927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1423E4-985C-453C-B52E-5CDBEF5F7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33FF3D-3D79-435E-BFA6-23B5231F1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2087AC-0D3C-449A-984F-3264ACA91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33072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592128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73980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33072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592128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406D43-AFE0-4125-950F-F6EADC01D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EEB354-359F-4917-9181-AD568CCA7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2C7EEA-E472-4A96-B30F-DFD7DB43B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0B7332-162F-494E-B466-2CA279365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Click to edit the outline text format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1" marL="56232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con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2" marL="84852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Thir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3" marL="112464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our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4" marL="141084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if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5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ix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6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ven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A4060E5-64FA-4E42-A0AF-7B60B3098E40}" type="datetime"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78952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Kevin J. Slonka &amp; Rhuel T. Adams, INFS6760B, Spring 2009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0524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D1184B-ABC1-4DC1-B4EE-5E56CFAF81A2}" type="slidenum"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8373960" y="5803920"/>
            <a:ext cx="20484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80b606"/>
                </a:solidFill>
                <a:latin typeface="Wingdings"/>
                <a:ea typeface="Wingdings"/>
              </a:rPr>
              <a:t>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Click to edit the outline text format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1" marL="56232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con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2" marL="84852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Thir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3" marL="112464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our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4" marL="141084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if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5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ix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6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ven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DD133D5-77D0-47C5-86F4-C1BD8606C1E0}" type="datetime"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578952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Kevin J. Slonka &amp; Rhuel T. Adams, INFS6760B, Spring 2009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430524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9F9F05-6C55-40A7-B82C-F565CB555620}" type="slidenum"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Box 6"/>
          <p:cNvSpPr/>
          <p:nvPr/>
        </p:nvSpPr>
        <p:spPr>
          <a:xfrm>
            <a:off x="8373960" y="5803920"/>
            <a:ext cx="20484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80b606"/>
                </a:solidFill>
                <a:latin typeface="Wingdings"/>
                <a:ea typeface="Wingdings"/>
              </a:rPr>
              <a:t>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Click to edit the outline text format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1" marL="56232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con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2" marL="84852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Thir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3" marL="112464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our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4" marL="141084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if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5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ix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6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ven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AEE2C1-0CEB-4960-9BC7-5FA305C6C261}" type="datetime">
              <a:rPr b="1" lang="en-US" sz="11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7238880" y="6356520"/>
            <a:ext cx="144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Kevin J. Slonka &amp; Rhuel T. Adams, INFS6760B, Spring 2009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430524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F5862D-C587-4569-9ED1-1B9A3BBD72A5}" type="slidenum">
              <a:rPr b="1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Click to edit the outline text format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1" marL="56232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con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2" marL="84852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Thir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3" marL="112464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our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4" marL="141084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if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5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ix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6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ven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EACA5DD-3B0D-4AD2-88F4-9542C4FE99B1}" type="datetime"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11"/>
          </p:nvPr>
        </p:nvSpPr>
        <p:spPr>
          <a:xfrm>
            <a:off x="578952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Kevin J. Slonka &amp; Rhuel T. Adams, INFS6760B, Spring 2009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2"/>
          </p:nvPr>
        </p:nvSpPr>
        <p:spPr>
          <a:xfrm>
            <a:off x="430524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AF3C010-C98E-4E87-B576-AD6CA34C1505}" type="slidenum"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Click to edit the outline text format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1" marL="56232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con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2" marL="84852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Thir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3" marL="112464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our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4" marL="141084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if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5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ix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6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ven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CED6CCA-DB2A-4DE1-9FDD-1E3E5B57350C}" type="datetime">
              <a:rPr b="1" lang="en-US" sz="11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ftr" idx="14"/>
          </p:nvPr>
        </p:nvSpPr>
        <p:spPr>
          <a:xfrm>
            <a:off x="578952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Kevin J. Slonka &amp; Rhuel T. Adams, INFS6760B, Spring 2009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sldNum" idx="15"/>
          </p:nvPr>
        </p:nvSpPr>
        <p:spPr>
          <a:xfrm>
            <a:off x="430524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94E7AF-E45E-4FA1-BB38-A53328A2545C}" type="slidenum"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Click to edit the outline text format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1" marL="56232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con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2" marL="84852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Thir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3" marL="112464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our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4" marL="141084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if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5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ix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6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ven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A65460-3080-41D2-8049-CC1254EBF3C7}" type="datetime">
              <a:rPr b="1" lang="en-US" sz="11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ftr" idx="17"/>
          </p:nvPr>
        </p:nvSpPr>
        <p:spPr>
          <a:xfrm>
            <a:off x="578952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Kevin J. Slonka &amp; Rhuel T. Adams, INFS6760B, Spring 2009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 type="sldNum" idx="18"/>
          </p:nvPr>
        </p:nvSpPr>
        <p:spPr>
          <a:xfrm>
            <a:off x="430524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02545A-6913-4A56-88D6-01D68832B74C}" type="slidenum"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Click to edit the outline text format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1" marL="56232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con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2" marL="84852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Thir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3" marL="112464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our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4" marL="141084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if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5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ix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6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ven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D737B0-A164-4C81-BAB8-6D5BDB795210}" type="datetime">
              <a:rPr b="1" lang="en-US" sz="11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 type="ftr" idx="20"/>
          </p:nvPr>
        </p:nvSpPr>
        <p:spPr>
          <a:xfrm>
            <a:off x="578952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Kevin J. Slonka &amp; Rhuel T. Adams, INFS6760B, Spring 2009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 type="sldNum" idx="21"/>
          </p:nvPr>
        </p:nvSpPr>
        <p:spPr>
          <a:xfrm>
            <a:off x="430524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382082-C507-4245-AC38-DD5F253CA694}" type="slidenum"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Click to edit the outline text format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1" marL="56232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con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2" marL="84852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Thir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3" marL="112464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our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4" marL="141084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if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5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ix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6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ven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21B62B-8C49-41BD-B559-B2B3E8CCCDD8}" type="datetime"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ftr" idx="23"/>
          </p:nvPr>
        </p:nvSpPr>
        <p:spPr>
          <a:xfrm>
            <a:off x="578952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Kevin J. Slonka &amp; Rhuel T. Adams, INFS6760B, Spring 2009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sldNum" idx="24"/>
          </p:nvPr>
        </p:nvSpPr>
        <p:spPr>
          <a:xfrm>
            <a:off x="430524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5AD7B2-484E-459B-8F4C-DCB40B1217B4}" type="slidenum"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Click to edit the outline text format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1" marL="56232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con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2" marL="84852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Thir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3" marL="112464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our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4" marL="141084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if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5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ix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6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ven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FED9C1-6257-4A38-9BC4-7A58CD6307E6}" type="datetime"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 type="ftr" idx="26"/>
          </p:nvPr>
        </p:nvSpPr>
        <p:spPr>
          <a:xfrm>
            <a:off x="578952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Kevin J. Slonka &amp; Rhuel T. Adams, INFS6760B, Spring 2009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 type="sldNum" idx="27"/>
          </p:nvPr>
        </p:nvSpPr>
        <p:spPr>
          <a:xfrm>
            <a:off x="430524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E3C9231-94A7-485F-8F54-7299045406DF}" type="slidenum"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1295280"/>
            <a:ext cx="8228160" cy="192744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sto MT"/>
              </a:rPr>
              <a:t>Pod Slurping</a:t>
            </a:r>
            <a:endParaRPr b="0" lang="en-US" sz="6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subTitle"/>
          </p:nvPr>
        </p:nvSpPr>
        <p:spPr>
          <a:xfrm>
            <a:off x="457200" y="3308040"/>
            <a:ext cx="8228160" cy="1066680"/>
          </a:xfrm>
          <a:prstGeom prst="rect">
            <a:avLst/>
          </a:prstGeom>
          <a:noFill/>
          <a:ln w="0">
            <a:noFill/>
          </a:ln>
        </p:spPr>
        <p:txBody>
          <a:bodyPr tIns="0" bIns="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Kevin J. Slonka</a:t>
            </a:r>
            <a:endParaRPr b="0" lang="en-US" sz="1800" spc="-1" strike="noStrike">
              <a:solidFill>
                <a:srgbClr val="595959"/>
              </a:solidFill>
              <a:latin typeface="Calisto MT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Rhuel T. Adams</a:t>
            </a:r>
            <a:endParaRPr b="0" lang="en-US" sz="18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73" name="Footer Placeholder 4"/>
          <p:cNvSpPr/>
          <p:nvPr/>
        </p:nvSpPr>
        <p:spPr>
          <a:xfrm>
            <a:off x="578952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Arial"/>
              </a:rPr>
              <a:t>Kevin J. Slonka &amp; Rhuel T. Adams, INFS6760B, Spring 2009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Slide Number Placeholder 3"/>
          <p:cNvSpPr/>
          <p:nvPr/>
        </p:nvSpPr>
        <p:spPr>
          <a:xfrm>
            <a:off x="430524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169C1E8-E2E1-415A-9989-6FC9FE537D47}" type="slidenum">
              <a:rPr b="1" lang="en-US" sz="11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Creating the automated USB drive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U3 USB Drive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1" marL="576000" indent="-282600">
              <a:spcBef>
                <a:spcPts val="6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sto MT"/>
              </a:rPr>
              <a:t>U3 drives are partitioned "CDROM" and "Removable Disk”</a:t>
            </a:r>
            <a:endParaRPr b="0" lang="en-US" sz="2000" spc="-1" strike="noStrike">
              <a:solidFill>
                <a:srgbClr val="595959"/>
              </a:solidFill>
              <a:latin typeface="Calisto MT"/>
            </a:endParaRPr>
          </a:p>
          <a:p>
            <a:pPr lvl="1" marL="576000" indent="-282600">
              <a:spcBef>
                <a:spcPts val="6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sto MT"/>
              </a:rPr>
              <a:t>Not feasible to write to ISO9660 (CDROM) File System with standard system utilities</a:t>
            </a:r>
            <a:endParaRPr b="0" lang="en-US" sz="2000" spc="-1" strike="noStrike">
              <a:solidFill>
                <a:srgbClr val="595959"/>
              </a:solidFill>
              <a:latin typeface="Calisto MT"/>
            </a:endParaRPr>
          </a:p>
          <a:p>
            <a:pPr lvl="1" marL="576000" indent="-282600">
              <a:spcBef>
                <a:spcPts val="6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sto MT"/>
              </a:rPr>
              <a:t>A 3rd party app is needed to write to ISO9660</a:t>
            </a:r>
            <a:endParaRPr b="0" lang="en-US" sz="2000" spc="-1" strike="noStrike">
              <a:solidFill>
                <a:srgbClr val="595959"/>
              </a:solidFill>
              <a:latin typeface="Calisto MT"/>
            </a:endParaRPr>
          </a:p>
          <a:p>
            <a:pPr marL="288000" indent="-2880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U3 Customizer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1" marL="576000" indent="-282600">
              <a:spcBef>
                <a:spcPts val="6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sto MT"/>
              </a:rPr>
              <a:t>Provides a script to generate a custom .iso and "burn" it to the ISO9660 Partition of the U3 drive</a:t>
            </a:r>
            <a:endParaRPr b="0" lang="en-US" sz="2000" spc="-1" strike="noStrike">
              <a:solidFill>
                <a:srgbClr val="595959"/>
              </a:solidFill>
              <a:latin typeface="Calisto MT"/>
            </a:endParaRPr>
          </a:p>
          <a:p>
            <a:pPr lvl="1" marL="576000" indent="-282600">
              <a:spcBef>
                <a:spcPts val="6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sto MT"/>
              </a:rPr>
              <a:t>Allows custom software to be run on the victim computer with no knowledge by the user</a:t>
            </a:r>
            <a:endParaRPr b="0" lang="en-US" sz="20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09" name="Footer Placeholder 3"/>
          <p:cNvSpPr/>
          <p:nvPr/>
        </p:nvSpPr>
        <p:spPr>
          <a:xfrm>
            <a:off x="578952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Arial"/>
              </a:rPr>
              <a:t>Kevin J. Slonka &amp; Rhuel T. Adams, INFS6760B, Spring 2009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Slide Number Placeholder 4"/>
          <p:cNvSpPr/>
          <p:nvPr/>
        </p:nvSpPr>
        <p:spPr>
          <a:xfrm>
            <a:off x="430524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EE8B03-39D2-4906-8EBD-39F4B6A5A45C}" type="slidenum">
              <a:rPr b="1" lang="en-US" sz="11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The “it plays video games, seriously” approach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739800" y="2742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Most corporations do not allow the use of personal, writable storage devices such as USB sticks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Most facility security officers don’t realize that gaming devices, such as the Sony PSP, are writable storage devices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13" name="Footer Placeholder 3"/>
          <p:cNvSpPr/>
          <p:nvPr/>
        </p:nvSpPr>
        <p:spPr>
          <a:xfrm>
            <a:off x="578952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Arial"/>
              </a:rPr>
              <a:t>Kevin J. Slonka &amp; Rhuel T. Adams, INFS6760B, Spring 2009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Slide Number Placeholder 4"/>
          <p:cNvSpPr/>
          <p:nvPr/>
        </p:nvSpPr>
        <p:spPr>
          <a:xfrm>
            <a:off x="430524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ED3ED4-D2F4-4C72-AE21-7D57F1911A0E}" type="slidenum">
              <a:rPr b="1" lang="en-US" sz="11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1295280"/>
            <a:ext cx="8228160" cy="192744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sto MT"/>
              </a:rPr>
              <a:t>Demo</a:t>
            </a:r>
            <a:endParaRPr b="0" lang="en-US" sz="6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3308040"/>
            <a:ext cx="822816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17" name="Footer Placeholder 4"/>
          <p:cNvSpPr/>
          <p:nvPr/>
        </p:nvSpPr>
        <p:spPr>
          <a:xfrm>
            <a:off x="578952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Arial"/>
              </a:rPr>
              <a:t>Kevin J. Slonka &amp; Rhuel T. Adams, INFS6760B, Spring 2009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Slide Number Placeholder 3"/>
          <p:cNvSpPr/>
          <p:nvPr/>
        </p:nvSpPr>
        <p:spPr>
          <a:xfrm>
            <a:off x="430524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0D4F77F-513E-4D95-A252-FAA699D9A16A}" type="slidenum">
              <a:rPr b="1" lang="en-US" sz="11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References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4635000" y="2784600"/>
            <a:ext cx="3767400" cy="35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Calisto MT"/>
              </a:rPr>
              <a:t>“</a:t>
            </a:r>
            <a:r>
              <a:rPr b="0" lang="en-US" sz="1100" spc="-1" strike="noStrike">
                <a:solidFill>
                  <a:srgbClr val="595959"/>
                </a:solidFill>
                <a:latin typeface="Calisto MT"/>
              </a:rPr>
              <a:t>Test your defenses against malicious USB flash drives.” http://blogs.computerworld.com/node/12946/print (accessed March 19, 2009).</a:t>
            </a:r>
            <a:endParaRPr b="0" lang="en-US" sz="1100" spc="-1" strike="noStrike">
              <a:solidFill>
                <a:srgbClr val="595959"/>
              </a:solidFill>
              <a:latin typeface="Calisto MT"/>
            </a:endParaRPr>
          </a:p>
          <a:p>
            <a:pPr marL="305280" indent="-30528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Calisto MT"/>
              </a:rPr>
              <a:t>“</a:t>
            </a:r>
            <a:r>
              <a:rPr b="0" lang="en-US" sz="1100" spc="-1" strike="noStrike">
                <a:solidFill>
                  <a:srgbClr val="595959"/>
                </a:solidFill>
                <a:latin typeface="Calisto MT"/>
              </a:rPr>
              <a:t>Hacking U3 Smart USB Drives.” http://www.mcgrewsecurity.com/pub/hackingu3/ (accessed March 22, 2009).</a:t>
            </a:r>
            <a:endParaRPr b="0" lang="en-US" sz="1100" spc="-1" strike="noStrike">
              <a:solidFill>
                <a:srgbClr val="595959"/>
              </a:solidFill>
              <a:latin typeface="Calisto MT"/>
            </a:endParaRPr>
          </a:p>
          <a:p>
            <a:pPr marL="305280" indent="-30528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Calisto MT"/>
              </a:rPr>
              <a:t>“</a:t>
            </a:r>
            <a:r>
              <a:rPr b="0" lang="en-US" sz="1100" spc="-1" strike="noStrike">
                <a:solidFill>
                  <a:srgbClr val="595959"/>
                </a:solidFill>
                <a:latin typeface="Calisto MT"/>
              </a:rPr>
              <a:t>Pod slurping.” http://www.sharp-ideas.net/pod_slurping.php (accessed March 17, 2009).</a:t>
            </a:r>
            <a:endParaRPr b="0" lang="en-US" sz="1100" spc="-1" strike="noStrike">
              <a:solidFill>
                <a:srgbClr val="595959"/>
              </a:solidFill>
              <a:latin typeface="Calisto MT"/>
            </a:endParaRPr>
          </a:p>
          <a:p>
            <a:pPr marL="305280" indent="-30528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Calisto MT"/>
              </a:rPr>
              <a:t>“</a:t>
            </a:r>
            <a:r>
              <a:rPr b="0" lang="en-US" sz="1100" spc="-1" strike="noStrike">
                <a:solidFill>
                  <a:srgbClr val="595959"/>
                </a:solidFill>
                <a:latin typeface="Calisto MT"/>
              </a:rPr>
              <a:t>Pod slurping.” http://en.wikipedia.org/wiki/Pod_slurping (accessed March 24, 2009).</a:t>
            </a:r>
            <a:endParaRPr b="0" lang="en-US" sz="1100" spc="-1" strike="noStrike">
              <a:solidFill>
                <a:srgbClr val="595959"/>
              </a:solidFill>
              <a:latin typeface="Calisto MT"/>
            </a:endParaRPr>
          </a:p>
          <a:p>
            <a:pPr marL="305280" indent="-30528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Calisto MT"/>
              </a:rPr>
              <a:t>“</a:t>
            </a:r>
            <a:r>
              <a:rPr b="0" lang="en-US" sz="1100" spc="-1" strike="noStrike">
                <a:solidFill>
                  <a:srgbClr val="595959"/>
                </a:solidFill>
                <a:latin typeface="Calisto MT"/>
              </a:rPr>
              <a:t>Disable Writing to USB Disks with GPO.”  http://www.petri.co.il/disable_writing_to_usb _disks_in_xp_sp2_with_gpo.htm (accessed March 19, 2009).</a:t>
            </a:r>
            <a:endParaRPr b="0" lang="en-US" sz="11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739800" y="2784600"/>
            <a:ext cx="3767040" cy="35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Calisto MT"/>
              </a:rPr>
              <a:t>“</a:t>
            </a:r>
            <a:r>
              <a:rPr b="0" lang="en-US" sz="1100" spc="-1" strike="noStrike">
                <a:solidFill>
                  <a:srgbClr val="595959"/>
                </a:solidFill>
                <a:latin typeface="Calisto MT"/>
              </a:rPr>
              <a:t>Hack U3 USB Smart Drive to Become Ultimate Hack Tool.”  http://www.raymond.cc/blog/archives/2007/11/23/hack-u3-usb-smart-drive-to-become-ultimate-hack-tool/ (accessed March 18, 2009).</a:t>
            </a:r>
            <a:endParaRPr b="0" lang="en-US" sz="1100" spc="-1" strike="noStrike">
              <a:solidFill>
                <a:srgbClr val="595959"/>
              </a:solidFill>
              <a:latin typeface="Calisto MT"/>
            </a:endParaRPr>
          </a:p>
          <a:p>
            <a:pPr marL="301680" indent="-30168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Calisto MT"/>
              </a:rPr>
              <a:t>“</a:t>
            </a:r>
            <a:r>
              <a:rPr b="0" lang="en-US" sz="1100" spc="-1" strike="noStrike">
                <a:solidFill>
                  <a:srgbClr val="595959"/>
                </a:solidFill>
                <a:latin typeface="Calisto MT"/>
              </a:rPr>
              <a:t>How to: Simple “Podslurping” Example With a USB Flash Drive.” http://www.usbhacks.com/2006/10/29/how-to-simple-podslurping-example-with-a-usb-flash-drive/ (accessed March 18, 2009).</a:t>
            </a:r>
            <a:endParaRPr b="0" lang="en-US" sz="1100" spc="-1" strike="noStrike">
              <a:solidFill>
                <a:srgbClr val="595959"/>
              </a:solidFill>
              <a:latin typeface="Calisto MT"/>
            </a:endParaRPr>
          </a:p>
          <a:p>
            <a:pPr marL="301680" indent="-30168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Calisto MT"/>
              </a:rPr>
              <a:t>“</a:t>
            </a:r>
            <a:r>
              <a:rPr b="0" lang="en-US" sz="1100" spc="-1" strike="noStrike">
                <a:solidFill>
                  <a:srgbClr val="595959"/>
                </a:solidFill>
                <a:latin typeface="Calisto MT"/>
              </a:rPr>
              <a:t>USB Hacksaw.” http://wiki.hak5.org/wiki/USB_Hacksaw (accessed March 20, 2009).</a:t>
            </a:r>
            <a:endParaRPr b="0" lang="en-US" sz="1100" spc="-1" strike="noStrike">
              <a:solidFill>
                <a:srgbClr val="595959"/>
              </a:solidFill>
              <a:latin typeface="Calisto MT"/>
            </a:endParaRPr>
          </a:p>
          <a:p>
            <a:pPr marL="301680" indent="-30168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Calisto MT"/>
              </a:rPr>
              <a:t>“</a:t>
            </a:r>
            <a:r>
              <a:rPr b="0" lang="en-US" sz="1100" spc="-1" strike="noStrike">
                <a:solidFill>
                  <a:srgbClr val="595959"/>
                </a:solidFill>
                <a:latin typeface="Calisto MT"/>
              </a:rPr>
              <a:t>Disable USB Flash Drives.”  http://www.intelliadmin.com/blog/2007/01/disable-usb-flash-drives.html (accessed March 19, 2009).</a:t>
            </a:r>
            <a:endParaRPr b="0" lang="en-US" sz="1100" spc="-1" strike="noStrike">
              <a:solidFill>
                <a:srgbClr val="595959"/>
              </a:solidFill>
              <a:latin typeface="Calisto MT"/>
            </a:endParaRPr>
          </a:p>
          <a:p>
            <a:pPr marL="301680" indent="-30168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Calisto MT"/>
              </a:rPr>
              <a:t>“</a:t>
            </a:r>
            <a:r>
              <a:rPr b="0" lang="en-US" sz="1100" spc="-1" strike="noStrike">
                <a:solidFill>
                  <a:srgbClr val="595959"/>
                </a:solidFill>
                <a:latin typeface="Calisto MT"/>
              </a:rPr>
              <a:t>Download.”  http://gonzor228.com/download (accessed March 20, 2009).</a:t>
            </a:r>
            <a:endParaRPr b="0" lang="en-US" sz="11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22" name="Footer Placeholder 3"/>
          <p:cNvSpPr/>
          <p:nvPr/>
        </p:nvSpPr>
        <p:spPr>
          <a:xfrm>
            <a:off x="578952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Arial"/>
              </a:rPr>
              <a:t>Kevin J. Slonka &amp; Rhuel T. Adams, INFS6760B, Spring 2009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Slide Number Placeholder 4"/>
          <p:cNvSpPr/>
          <p:nvPr/>
        </p:nvSpPr>
        <p:spPr>
          <a:xfrm>
            <a:off x="430524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8A5EAA-3FA1-4D3A-9E85-13CD61B9C10D}" type="slidenum">
              <a:rPr b="1" lang="en-US" sz="11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What’s pod slurping?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Pod slurping is the act of using a portable data storage device such as an iPod digital audio player to illicitly download large quantities of confidential data by directly plugging it into a computer where the data is held.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marL="312120" indent="-31212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As these storage devices become smaller and their storage capacity becomes greater, they are becoming an increasing security risk to companies and government agencies.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marL="312120" indent="-31212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Usually access is gained while the computer is unattended.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77" name="Footer Placeholder 3"/>
          <p:cNvSpPr/>
          <p:nvPr/>
        </p:nvSpPr>
        <p:spPr>
          <a:xfrm>
            <a:off x="578952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Arial"/>
              </a:rPr>
              <a:t>Kevin J. Slonka &amp; Rhuel T. Adams, INFS6760B, Spring 2009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Slide Number Placeholder 4"/>
          <p:cNvSpPr/>
          <p:nvPr/>
        </p:nvSpPr>
        <p:spPr>
          <a:xfrm>
            <a:off x="430524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2A5EA5-27A3-47FD-BBC6-AAD386E2B65D}" type="slidenum">
              <a:rPr b="1" lang="en-US" sz="11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What’s the vulnerability?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Hosts are often left unattended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Hosts allow USB storage devices to be connected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Autorun is rarely disabled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Users are stupid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81" name="Footer Placeholder 4"/>
          <p:cNvSpPr/>
          <p:nvPr/>
        </p:nvSpPr>
        <p:spPr>
          <a:xfrm>
            <a:off x="578952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Arial"/>
              </a:rPr>
              <a:t>Kevin J. Slonka &amp; Rhuel T. Adams, INFS6760B, Spring 2009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Slide Number Placeholder 3"/>
          <p:cNvSpPr/>
          <p:nvPr/>
        </p:nvSpPr>
        <p:spPr>
          <a:xfrm>
            <a:off x="430524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E43839-0D30-4D1B-B1DE-584ED9836616}" type="slidenum">
              <a:rPr b="1" lang="en-US" sz="11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How do you mitigate the risk?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Control physical access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marL="281160" indent="-28116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Disable USB in the BIOS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1" marL="562320" indent="-275760">
              <a:spcBef>
                <a:spcPts val="6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sto MT"/>
              </a:rPr>
              <a:t>Disables keyboards, mice, and other useful devices</a:t>
            </a:r>
            <a:endParaRPr b="0" lang="en-US" sz="2000" spc="-1" strike="noStrike">
              <a:solidFill>
                <a:srgbClr val="595959"/>
              </a:solidFill>
              <a:latin typeface="Calisto MT"/>
            </a:endParaRPr>
          </a:p>
          <a:p>
            <a:pPr marL="281160" indent="-28116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3</a:t>
            </a:r>
            <a:r>
              <a:rPr b="0" lang="en-US" sz="2200" spc="-1" strike="noStrike" baseline="30000">
                <a:solidFill>
                  <a:srgbClr val="595959"/>
                </a:solidFill>
                <a:latin typeface="Calisto MT"/>
              </a:rPr>
              <a:t>rd</a:t>
            </a: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 party utilities to disable use of USB storage devices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1" marL="562320" indent="-275760">
              <a:spcBef>
                <a:spcPts val="6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sto MT"/>
              </a:rPr>
              <a:t>Vista-based hosts can do this natively</a:t>
            </a:r>
            <a:endParaRPr b="0" lang="en-US" sz="2000" spc="-1" strike="noStrike">
              <a:solidFill>
                <a:srgbClr val="595959"/>
              </a:solidFill>
              <a:latin typeface="Calisto MT"/>
            </a:endParaRPr>
          </a:p>
          <a:p>
            <a:pPr marL="281160" indent="-28116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Implement policies on hosts to disable autorun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marL="281160" indent="-28116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Training, training, training!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1" marL="562320" indent="-275760">
              <a:spcBef>
                <a:spcPts val="6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sto MT"/>
              </a:rPr>
              <a:t>You can’t fix stupid</a:t>
            </a:r>
            <a:endParaRPr b="0" lang="en-US" sz="20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85" name="Footer Placeholder 4"/>
          <p:cNvSpPr/>
          <p:nvPr/>
        </p:nvSpPr>
        <p:spPr>
          <a:xfrm>
            <a:off x="578952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Arial"/>
              </a:rPr>
              <a:t>Kevin J. Slonka &amp; Rhuel T. Adams, INFS6760B, Spring 2009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Slide Number Placeholder 3"/>
          <p:cNvSpPr/>
          <p:nvPr/>
        </p:nvSpPr>
        <p:spPr>
          <a:xfrm>
            <a:off x="430524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9EFA527-BFDC-41BD-BDC2-EAF542D14F7A}" type="slidenum">
              <a:rPr b="1" lang="en-US" sz="11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Technical mitigation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Group Policy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1" marL="685800" indent="-336600">
              <a:spcBef>
                <a:spcPts val="6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sto MT"/>
              </a:rPr>
              <a:t>Disable autoplay</a:t>
            </a:r>
            <a:endParaRPr b="0" lang="en-US" sz="2000" spc="-1" strike="noStrike">
              <a:solidFill>
                <a:srgbClr val="595959"/>
              </a:solidFill>
              <a:latin typeface="Calisto MT"/>
            </a:endParaRPr>
          </a:p>
          <a:p>
            <a:pPr lvl="2" marL="1035000" indent="-349200">
              <a:spcBef>
                <a:spcPts val="6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alisto MT"/>
              </a:rPr>
              <a:t>Gpedit.msc &gt; Local Computer Policy &gt; Computer Configuration &gt; Administrative Templates &gt; System &gt; Turn Off Autoplay</a:t>
            </a:r>
            <a:endParaRPr b="0" lang="en-US" sz="1800" spc="-1" strike="noStrike">
              <a:solidFill>
                <a:srgbClr val="595959"/>
              </a:solidFill>
              <a:latin typeface="Calisto MT"/>
            </a:endParaRPr>
          </a:p>
          <a:p>
            <a:pPr lvl="3" marL="1371600" indent="-336600">
              <a:spcBef>
                <a:spcPts val="6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alisto MT"/>
              </a:rPr>
              <a:t>Enabled</a:t>
            </a:r>
            <a:endParaRPr b="0" lang="en-US" sz="1800" spc="-1" strike="noStrike">
              <a:solidFill>
                <a:srgbClr val="595959"/>
              </a:solidFill>
              <a:latin typeface="Calisto MT"/>
            </a:endParaRPr>
          </a:p>
          <a:p>
            <a:pPr lvl="3" marL="1371600" indent="-336600">
              <a:spcBef>
                <a:spcPts val="6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alisto MT"/>
              </a:rPr>
              <a:t>All Drives</a:t>
            </a:r>
            <a:endParaRPr b="0" lang="en-US" sz="18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89" name="Footer Placeholder 3"/>
          <p:cNvSpPr/>
          <p:nvPr/>
        </p:nvSpPr>
        <p:spPr>
          <a:xfrm>
            <a:off x="578952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Arial"/>
              </a:rPr>
              <a:t>Kevin J. Slonka &amp; Rhuel T. Adams, INFS6760B, Spring 2009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Slide Number Placeholder 4"/>
          <p:cNvSpPr/>
          <p:nvPr/>
        </p:nvSpPr>
        <p:spPr>
          <a:xfrm>
            <a:off x="430524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2F317DD-DA4A-462D-B997-A7ABAF1204F1}" type="slidenum">
              <a:rPr b="1" lang="en-US" sz="11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Technical mitigation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Registry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1" marL="685800" indent="-336600">
              <a:spcBef>
                <a:spcPts val="6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sto MT"/>
              </a:rPr>
              <a:t>Enable write protecting of USB storage devices</a:t>
            </a:r>
            <a:endParaRPr b="0" lang="en-US" sz="2000" spc="-1" strike="noStrike">
              <a:solidFill>
                <a:srgbClr val="595959"/>
              </a:solidFill>
              <a:latin typeface="Calisto MT"/>
            </a:endParaRPr>
          </a:p>
          <a:p>
            <a:pPr lvl="2" marL="1035000" indent="-349200">
              <a:spcBef>
                <a:spcPts val="6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alisto MT"/>
              </a:rPr>
              <a:t>HKLM\System\CurrentControlSet\Control\ StorageDevicePolicies\WriteProtect=1 (0=disabled)</a:t>
            </a:r>
            <a:endParaRPr b="0" lang="en-US" sz="1800" spc="-1" strike="noStrike">
              <a:solidFill>
                <a:srgbClr val="595959"/>
              </a:solidFill>
              <a:latin typeface="Calisto MT"/>
            </a:endParaRPr>
          </a:p>
          <a:p>
            <a:pPr lvl="1" marL="685800" indent="-336600">
              <a:spcBef>
                <a:spcPts val="6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sto MT"/>
              </a:rPr>
              <a:t>Disable loading of USB storage driver</a:t>
            </a:r>
            <a:endParaRPr b="0" lang="en-US" sz="2000" spc="-1" strike="noStrike">
              <a:solidFill>
                <a:srgbClr val="595959"/>
              </a:solidFill>
              <a:latin typeface="Calisto MT"/>
            </a:endParaRPr>
          </a:p>
          <a:p>
            <a:pPr lvl="2" marL="1035000" indent="-349200">
              <a:spcBef>
                <a:spcPts val="6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alisto MT"/>
              </a:rPr>
              <a:t>HKLM\System\CurrentControlSet\Services\UsbStor\Start=4 (3=enabled)</a:t>
            </a:r>
            <a:endParaRPr b="0" lang="en-US" sz="1800" spc="-1" strike="noStrike">
              <a:solidFill>
                <a:srgbClr val="595959"/>
              </a:solidFill>
              <a:latin typeface="Calisto MT"/>
            </a:endParaRPr>
          </a:p>
          <a:p>
            <a:pPr lvl="3" marL="1371600" indent="-336600">
              <a:spcBef>
                <a:spcPts val="6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alisto MT"/>
              </a:rPr>
              <a:t>Rename C:\Windows\Inf\UsbStor.{inf,pnf} to .bak</a:t>
            </a:r>
            <a:endParaRPr b="0" lang="en-US" sz="18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93" name="Footer Placeholder 3"/>
          <p:cNvSpPr/>
          <p:nvPr/>
        </p:nvSpPr>
        <p:spPr>
          <a:xfrm>
            <a:off x="578952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Arial"/>
              </a:rPr>
              <a:t>Kevin J. Slonka &amp; Rhuel T. Adams, INFS6760B, Spring 2009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Slide Number Placeholder 4"/>
          <p:cNvSpPr/>
          <p:nvPr/>
        </p:nvSpPr>
        <p:spPr>
          <a:xfrm>
            <a:off x="430524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53B51F-E052-4ED0-9273-B31CA9A2676D}" type="slidenum">
              <a:rPr b="1" lang="en-US" sz="11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How do you exploit the vulnerability?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Three approaches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1" marL="685800" indent="-336600">
              <a:spcBef>
                <a:spcPts val="6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sto MT"/>
              </a:rPr>
              <a:t>The social engineering approach</a:t>
            </a:r>
            <a:endParaRPr b="0" lang="en-US" sz="2000" spc="-1" strike="noStrike">
              <a:solidFill>
                <a:srgbClr val="595959"/>
              </a:solidFill>
              <a:latin typeface="Calisto MT"/>
            </a:endParaRPr>
          </a:p>
          <a:p>
            <a:pPr lvl="1" marL="685800" indent="-336600">
              <a:spcBef>
                <a:spcPts val="6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sto MT"/>
              </a:rPr>
              <a:t>The fully automated approach</a:t>
            </a:r>
            <a:endParaRPr b="0" lang="en-US" sz="2000" spc="-1" strike="noStrike">
              <a:solidFill>
                <a:srgbClr val="595959"/>
              </a:solidFill>
              <a:latin typeface="Calisto MT"/>
            </a:endParaRPr>
          </a:p>
          <a:p>
            <a:pPr lvl="1" marL="685800" indent="-336600">
              <a:spcBef>
                <a:spcPts val="6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sto MT"/>
              </a:rPr>
              <a:t>The “it plays video games, seriously” approach</a:t>
            </a:r>
            <a:endParaRPr b="0" lang="en-US" sz="20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97" name="Footer Placeholder 3"/>
          <p:cNvSpPr/>
          <p:nvPr/>
        </p:nvSpPr>
        <p:spPr>
          <a:xfrm>
            <a:off x="578952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Arial"/>
              </a:rPr>
              <a:t>Kevin J. Slonka &amp; Rhuel T. Adams, INFS6760B, Spring 2009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Slide Number Placeholder 4"/>
          <p:cNvSpPr/>
          <p:nvPr/>
        </p:nvSpPr>
        <p:spPr>
          <a:xfrm>
            <a:off x="430524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964887E-A57E-4E1F-912E-9374AA5261CC}" type="slidenum">
              <a:rPr b="1" lang="en-US" sz="11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The social engineering approach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Take the USB stick that, when plugged in, will pop a window with pictures from your vacation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“</a:t>
            </a: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Hey Bill, here, check out my vacation pictures.”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Bill will be amused by your pictures, not realizing the blinking light on the USB stick is actually all of his personal data being written to it.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01" name="Footer Placeholder 3"/>
          <p:cNvSpPr/>
          <p:nvPr/>
        </p:nvSpPr>
        <p:spPr>
          <a:xfrm>
            <a:off x="578952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Arial"/>
              </a:rPr>
              <a:t>Kevin J. Slonka &amp; Rhuel T. Adams, INFS6760B, Spring 2009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Slide Number Placeholder 4"/>
          <p:cNvSpPr/>
          <p:nvPr/>
        </p:nvSpPr>
        <p:spPr>
          <a:xfrm>
            <a:off x="430524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330D54D-748D-4CC3-A9ED-DD34DE4A85FC}" type="slidenum">
              <a:rPr b="1" lang="en-US" sz="11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The fully automated approach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While a co-worker steps away, plug the automated USB stick into the back of his computer (where it’s well hidden)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Walk away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Come back and remove the USB stick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This can even be done in the presence of the victim if you have easy access to a well hidden USB port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05" name="Footer Placeholder 3"/>
          <p:cNvSpPr/>
          <p:nvPr/>
        </p:nvSpPr>
        <p:spPr>
          <a:xfrm>
            <a:off x="578952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Arial"/>
              </a:rPr>
              <a:t>Kevin J. Slonka &amp; Rhuel T. Adams, INFS6760B, Spring 2009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Slide Number Placeholder 4"/>
          <p:cNvSpPr/>
          <p:nvPr/>
        </p:nvSpPr>
        <p:spPr>
          <a:xfrm>
            <a:off x="430524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C512EB7-47CD-4A31-A8C6-86992831D56D}" type="slidenum">
              <a:rPr b="1" lang="en-US" sz="11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13:52:09Z</dcterms:created>
  <dc:creator>Kevin Slonka</dc:creator>
  <dc:description/>
  <dc:language>en-US</dc:language>
  <cp:lastModifiedBy>Kevin Slonka</cp:lastModifiedBy>
  <dcterms:modified xsi:type="dcterms:W3CDTF">2009-03-24T17:44:10Z</dcterms:modified>
  <cp:revision>20</cp:revision>
  <dc:subject/>
  <dc:title>Pod Slurping</dc:title>
</cp:coreProperties>
</file>